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A52-58A7-4268-BCC9-ED3F7204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AF3-498F-4A94-8BD0-230E5ED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7CA-2FD4-4E6C-96F1-17E500BB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047-B4C6-4D44-B5B8-C4CBD4E6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43D-EFFC-43EF-9072-8880AE7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1B8-F1DB-4BC8-83BB-F2F3BE37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96A-3DDF-48C3-80A5-1C56E4E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A3-FAFC-455D-AB03-B4F7735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7CD-BAEA-4D90-BEA2-C0D0506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0EA-D2E3-47E0-AEC3-713607A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37B-FB54-4328-A742-6FF7E06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9E9-6335-4FA6-8ACF-16C2DC6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DCA-F826-4277-81BF-11E9B375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228600"/>
            <a:ext cx="0" cy="6477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523880"/>
            <a:ext cx="85345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0" cy="6477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70572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22860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31-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04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mnant Shall Retur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6F0-693C-4722-9966-327B472129C8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 Empir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tried to control the eastern Mediterran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resistance from Carthage, a North African city-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powers fought three “Punic” wa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64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19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149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won the wars, then turned eas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same period, Egypt and Syria were fighting over control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495-8CBF-404E-8395-6016E259D5C1}" type="slidenum">
              <a:t>10</a:t>
            </a:fld>
          </a:p>
        </p:txBody>
      </p:sp>
    </p:spTree>
  </p:cSld>
  <p:transition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00200" y="3276720"/>
            <a:ext cx="167652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523880"/>
            <a:ext cx="175248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0"/>
            <a:ext cx="175284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3581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819520" y="18288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3720" y="41911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BC9-02D9-474A-A1B1-04EAC36DF100}" type="slidenum">
              <a:t>11</a:t>
            </a:fld>
          </a:p>
        </p:txBody>
      </p:sp>
    </p:spTree>
  </p:cSld>
  <p:transition>
    <p:zoom dir="in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 Empir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omans marched toward the east, they came up against the Sy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pick up here in the next `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9BD-8C1E-4B4B-97F7-350D70C613E5}" type="slidenum">
              <a:t>12</a:t>
            </a:fld>
          </a:p>
        </p:txBody>
      </p:sp>
    </p:spTree>
  </p:cSld>
  <p:transition>
    <p:zoom dir="in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we begin this lesson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yrians were defeated by the Babylonians with help from the M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lonians were defeated by the Persians (who had control of the Med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ians were defeated by Greeks -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’s kingdom was divided five ways because of chaos and in-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“Grecian Empire” bore its own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FF5-C101-4B10-AF93-58027EE037DB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048120" y="4419360"/>
            <a:ext cx="3045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029200"/>
            <a:ext cx="144792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E4D-488A-4E3D-9A91-BB7A56D112CD}" type="slidenum">
              <a:t>3</a:t>
            </a:fld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the North and West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-Syrian empire was ruled by Seleucus Nic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mpire was created from the Peace of Ipsus Treaty of 301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part of Asia Minor, all of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u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uilt Antioch of Syria as his headqua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rian empire (“Seleucid” dynasty) lasted from 301 B.C. to about 64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321-2FBC-432C-85EB-9098E846EBA4}" type="slidenum">
              <a:t>4</a:t>
            </a:fld>
          </a:p>
        </p:txBody>
      </p:sp>
    </p:spTree>
  </p:cSld>
  <p:transition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the South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-Egyptian empire was ruled by Ptolemy So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mpire was also created by the Peace Treaty of Ipsus of 3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olem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ai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Judean territory for the next 1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Pharao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ria was his ca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ea in the middle of power strug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294-DCF2-4359-965F-880CEE0603C5}" type="slidenum">
              <a:t>5</a:t>
            </a:fld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the Jews stood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were allowed to keep their own form of worship and lifestyles as long as they did not infringe on the politics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were permitted to migrate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to Alexand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other parts of the Grecian e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dopted the language and customs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2BC-5159-4207-8A51-CF682AD0BBBE}" type="slidenum">
              <a:t>6</a:t>
            </a:fld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ptuagint Transl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olemy II worked with the High Priest in Jerusalem to translate the Hebrew scriptures into the Greek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uagint means “seven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end: 72 scholars translated in 7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  People everywhere could read the sacred wri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elytes (Gentile believers) came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doubt that God approved of this translation; probably in Hi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641-1916-480F-BE07-E09D9CBC1CF7}" type="slidenum">
              <a:t>7</a:t>
            </a:fld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the Jews stood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empire continued but had little  affect on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ochus III of Syria won control of Judea from the Egyptians in about 198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avored the Je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them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ed the office of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them to continue their local cus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, Rome was gain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2BF-5FF9-47F4-ACDD-9AE2D7916066}" type="slidenum">
              <a:t>8</a:t>
            </a:fld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s are coming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’s four-part dream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o-Pers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, the Ro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901-218B-4D81-ABCF-48CF14230668}" type="slidenum">
              <a:t>9</a:t>
            </a:fld>
          </a:p>
        </p:txBody>
      </p:sp>
    </p:spTree>
  </p:cSld>
  <p:transition>
    <p:zoom dir="in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20:25Z</dcterms:created>
  <dc:creator>Frank D Vines</dc:creator>
  <dc:description/>
  <dc:language>en-US</dc:language>
  <cp:lastModifiedBy>Don Vines</cp:lastModifiedBy>
  <dcterms:modified xsi:type="dcterms:W3CDTF">2006-03-21T04:14:07Z</dcterms:modified>
  <cp:revision>27</cp:revision>
  <dc:subject/>
  <dc:title>Slide 1</dc:title>
</cp:coreProperties>
</file>